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7E7D-0EB7-4C1E-B9A2-312271B010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1217-4284-4DAC-9548-AE687AB34D10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0E50-D55C-4191-A545-1250A8ECFB49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6CD5-1579-45D6-B7D7-93773343DFC0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DF9B-E3DC-46E9-B527-65C09D52B2F9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FBB3-6427-4310-8A5E-FB78A0BBCD6D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A164-7B88-4F2A-9EF6-F2D8A1AB0740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970C-43CC-4C2A-A2FB-9F3E4D52746C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CA0B-3BA7-4370-A992-A5166A262B57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3666-0BAC-43D7-A779-8CD774525ACF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7CE9-4B6B-4B59-B693-DD856B693AD4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62A5-8510-4D9A-B2C3-25FA5E0DFFDB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1873-7816-4582-87FF-D9427E170AA9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29C9-FF7F-4BD9-9C1C-5CF1FDA367EE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1035-788C-4BE2-BD81-872B660FC73A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4A72-EEC3-4A15-9AA1-7CB3F4C52777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7A5C-BB34-4FE2-B71B-3548E626AD59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B7BF-D1DA-4588-B175-C8E958B6B484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2566-8C91-460B-9B41-2733876E4CF5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4AA7-E378-4CE4-AD86-0EB0FF42A134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D181-4C9F-4A85-9FB1-4817E2032BE4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1A61-77B7-4EB0-8D68-8AF4F94893F9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303E-3836-46BD-A295-A94425216211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969-7349-473D-B803-FF56274B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9AA-D9E7-4FA1-9294-049E8375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457-9E6A-47ED-9388-F807A4A3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8E3-F769-4530-91D1-72EE2139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F581-B908-48CB-B5DF-C6C51345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C972-4E11-4C4D-AD92-01DA6A2E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E664-B3D0-4544-B276-1F6808DE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C538-7C85-4A89-ADED-29FD0557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4B24-017A-441F-8235-572BC6D3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8352-9E15-4C99-A6ED-8560427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C5B6-DCDE-4AD4-96C6-9717044F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A28-0BDD-4062-AAF9-0A3AC4E2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A8F7-0242-4947-B414-BAA56539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6329-2AC4-4C32-81A0-4F53DF6A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26B2-6B70-4B42-8B51-941F74DB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8051-FAD8-4035-938B-5E916CD4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0726-8A86-404C-B453-2058F659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0C2-A601-4652-AA95-6EDBC52D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2A5-881B-4673-B796-39E2635A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DC4-FAA6-4ECB-931E-D09DB8B0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D43-B2A4-4DC9-A45F-B6C7E605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6A5-D263-4C85-8D41-E8E6C78D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05A-F9B2-43D8-A49A-CBF6CD1E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E12-1CA1-4F6E-AE70-E94A6CC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9A2E-286C-4B11-87E7-F6E2F76BF2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5ADC-B721-438E-B99F-034A30FF340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mockingbird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200px-Killmockingbird217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5" descr="Copy_of_Mockingbird2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5" descr="growing7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harper_lee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7" descr="SCOTTS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FDR%20fireside%20chat%20March%201933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5" descr="acoffee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DLange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oldcotton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7" descr="owen3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hitler4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9" descr="SEGREGATION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6" descr="MrsDubose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2" descr="Mkgbrd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mockingbird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badham213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4764scout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060501"/>
          <p:cNvPicPr/>
          <p:nvPr/>
        </p:nvPicPr>
        <p:blipFill>
          <a:blip r:embed="rId1"/>
          <a:stretch/>
        </p:blipFill>
        <p:spPr>
          <a:xfrm>
            <a:off x="5486400" y="15238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9"/>
          <p:cNvSpPr/>
          <p:nvPr/>
        </p:nvSpPr>
        <p:spPr>
          <a:xfrm>
            <a:off x="838080" y="1752480"/>
            <a:ext cx="4419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CalandScout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09:12Z</dcterms:created>
  <dc:creator>Lisa Ward</dc:creator>
  <dc:description/>
  <dc:language>en-US</dc:language>
  <cp:lastModifiedBy>Hilary Wiltshire</cp:lastModifiedBy>
  <dcterms:modified xsi:type="dcterms:W3CDTF">2011-02-17T22:29:14Z</dcterms:modified>
  <cp:revision>30</cp:revision>
  <dc:subject/>
  <dc:title>To Kill a Mockingbird</dc:title>
</cp:coreProperties>
</file>